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106DC-4572-4DFB-BAEA-2323402A6F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371600" y="763560"/>
            <a:ext cx="501660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71600" y="763560"/>
            <a:ext cx="501480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Formula for function count estimates is: 2.71M + 4700*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371600" y="763560"/>
            <a:ext cx="501660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Deficiency in current mcount routine is being addressed with a new mcount (gnu_mcout) with slightly difference call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37E-5282-4CE3-BFAA-16BDC431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19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7520" y="4409280"/>
            <a:ext cx="82119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256-0AC5-48C2-B87B-096EA78F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752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556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1DB-A6D7-4A46-82C1-616552FD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840" y="147132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00520" y="147132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7520" y="440928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840" y="440928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00520" y="440928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C03-CAC5-4171-86D3-3D7247C1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5AC-17CB-4113-B8B8-91B4257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36E-D985-4E5D-802E-135D7A08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649-658F-4095-8A30-29B8AA3C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127-E181-4E1B-A808-F80374D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47520" y="317520"/>
            <a:ext cx="821196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808-2B7D-4A07-A7D9-D91582E6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752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DB3-E018-46E9-AAA6-BAB9578A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556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DE4-9B9B-40F7-AFD8-A8C2E428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7520" y="4409280"/>
            <a:ext cx="82119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203-C4C9-4C2A-AAD9-D0CF581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81400" cy="777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15200"/>
            <a:ext cx="10058400" cy="457200"/>
          </a:xfrm>
          <a:prstGeom prst="rect">
            <a:avLst/>
          </a:prstGeom>
          <a:solidFill>
            <a:srgbClr val="00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1640" indent="-2001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1640" indent="-2001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1640" indent="-2001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7314840"/>
            <a:ext cx="13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7311960"/>
            <a:ext cx="51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7315200"/>
            <a:ext cx="1203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79A2C-8B6F-4C1A-BADD-27D298A6F264}" type="slidenum"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of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205740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4200" y="1981080"/>
            <a:ext cx="85500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Function Du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08040" y="4952880"/>
            <a:ext cx="70423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98360" indent="0" algn="ctr">
              <a:lnSpc>
                <a:spcPct val="100000"/>
              </a:lnSpc>
              <a:buNone/>
              <a:tabLst>
                <a:tab algn="l" pos="0"/>
                <a:tab algn="l" pos="198360"/>
                <a:tab algn="l" pos="655560"/>
                <a:tab algn="l" pos="1112760"/>
                <a:tab algn="l" pos="1569960"/>
                <a:tab algn="l" pos="2027160"/>
                <a:tab algn="l" pos="2484360"/>
                <a:tab algn="l" pos="2941560"/>
                <a:tab algn="l" pos="3398760"/>
                <a:tab algn="l" pos="3855960"/>
                <a:tab algn="l" pos="4313160"/>
                <a:tab algn="l" pos="4770360"/>
                <a:tab algn="l" pos="5227560"/>
                <a:tab algn="l" pos="5684760"/>
                <a:tab algn="l" pos="6141960"/>
                <a:tab algn="l" pos="6599160"/>
                <a:tab algn="l" pos="7056360"/>
                <a:tab algn="l" pos="7513560"/>
                <a:tab algn="l" pos="7970760"/>
                <a:tab algn="l" pos="8427960"/>
                <a:tab algn="l" pos="8885160"/>
                <a:tab algn="l" pos="9342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y Tim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8360" indent="0" algn="ctr">
              <a:lnSpc>
                <a:spcPct val="100000"/>
              </a:lnSpc>
              <a:buNone/>
              <a:tabLst>
                <a:tab algn="l" pos="0"/>
                <a:tab algn="l" pos="198360"/>
                <a:tab algn="l" pos="655560"/>
                <a:tab algn="l" pos="1112760"/>
                <a:tab algn="l" pos="1569960"/>
                <a:tab algn="l" pos="2027160"/>
                <a:tab algn="l" pos="2484360"/>
                <a:tab algn="l" pos="2941560"/>
                <a:tab algn="l" pos="3398760"/>
                <a:tab algn="l" pos="3855960"/>
                <a:tab algn="l" pos="4313160"/>
                <a:tab algn="l" pos="4770360"/>
                <a:tab algn="l" pos="5227560"/>
                <a:tab algn="l" pos="5684760"/>
                <a:tab algn="l" pos="6141960"/>
                <a:tab algn="l" pos="6599160"/>
                <a:tab algn="l" pos="7056360"/>
                <a:tab algn="l" pos="7513560"/>
                <a:tab algn="l" pos="7970760"/>
                <a:tab algn="l" pos="8427960"/>
                <a:tab algn="l" pos="8885160"/>
                <a:tab algn="l" pos="9342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ny Corporation of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8360" indent="0" algn="ctr">
              <a:lnSpc>
                <a:spcPct val="100000"/>
              </a:lnSpc>
              <a:buNone/>
              <a:tabLst>
                <a:tab algn="l" pos="0"/>
                <a:tab algn="l" pos="198360"/>
                <a:tab algn="l" pos="655560"/>
                <a:tab algn="l" pos="1112760"/>
                <a:tab algn="l" pos="1569960"/>
                <a:tab algn="l" pos="2027160"/>
                <a:tab algn="l" pos="2484360"/>
                <a:tab algn="l" pos="2941560"/>
                <a:tab algn="l" pos="3398760"/>
                <a:tab algn="l" pos="3855960"/>
                <a:tab algn="l" pos="4313160"/>
                <a:tab algn="l" pos="4770360"/>
                <a:tab algn="l" pos="5227560"/>
                <a:tab algn="l" pos="5684760"/>
                <a:tab algn="l" pos="6141960"/>
                <a:tab algn="l" pos="6599160"/>
                <a:tab algn="l" pos="7056360"/>
                <a:tab algn="l" pos="7513560"/>
                <a:tab algn="l" pos="7970760"/>
                <a:tab algn="l" pos="8427960"/>
                <a:tab algn="l" pos="8885160"/>
                <a:tab algn="l" pos="934236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tim.bird (at) am.sony.c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1371600"/>
            <a:ext cx="2361960" cy="685800"/>
          </a:xfrm>
          <a:prstGeom prst="wedgeRoundRectCallout">
            <a:avLst>
              <a:gd name="adj1" fmla="val 4638"/>
              <a:gd name="adj2" fmla="val 123148"/>
              <a:gd name="adj3" fmla="val 16667"/>
            </a:avLst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0" anchor="t">
            <a:noAutofit/>
          </a:bodyPr>
          <a:p>
            <a:pPr marL="414360" indent="-309600" algn="ctr">
              <a:lnSpc>
                <a:spcPct val="66000"/>
              </a:lnSpc>
              <a:spcAft>
                <a:spcPts val="1426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n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is human readabl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tools required to collect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 t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EOF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 trace_pipe | grep foo &gt;log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enable/di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o 0 &gt;tracing_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 Buff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lock_r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ally reserve space in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event_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pointer to place to fill wit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unlock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ev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discard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reserved dat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duration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s function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relationship betwee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GREAT way to learn abou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nexpected/abnormal cod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function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ong latencies and performa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the -pg option only instruments function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ing function ex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‘function’ tracer just traces function entry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pture function exit, a trampoline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real return add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return address with address of tramp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it tracer, return to the real retur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 of Tramp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438280"/>
            <a:ext cx="1371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51460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819520"/>
            <a:ext cx="129528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5334120"/>
            <a:ext cx="12952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02920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2096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47242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56386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31240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0574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819520"/>
            <a:ext cx="1371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800600"/>
            <a:ext cx="1371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1520" y="1447920"/>
            <a:ext cx="151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51460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360" indent="-30960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71800" y="2278080"/>
            <a:ext cx="106668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27440" y="4952880"/>
            <a:ext cx="17578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4120" y="2133720"/>
            <a:ext cx="155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27080" y="2971800"/>
            <a:ext cx="19285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648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963520" y="2963520"/>
            <a:ext cx="1082520" cy="62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4600" y="2057400"/>
            <a:ext cx="3593880" cy="4114800"/>
          </a:xfrm>
          <a:custGeom>
            <a:avLst/>
            <a:gdLst/>
            <a:ahLst/>
            <a:rect l="l" t="t" r="r" b="b"/>
            <a:pathLst>
              <a:path w="2216" h="2600">
                <a:moveTo>
                  <a:pt x="2216" y="2352"/>
                </a:moveTo>
                <a:cubicBezTo>
                  <a:pt x="1404" y="2476"/>
                  <a:pt x="592" y="2600"/>
                  <a:pt x="296" y="2208"/>
                </a:cubicBezTo>
                <a:cubicBezTo>
                  <a:pt x="0" y="1816"/>
                  <a:pt x="220" y="908"/>
                  <a:pt x="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6520" y="1457280"/>
            <a:ext cx="24530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ad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ruct ret_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981080"/>
            <a:ext cx="1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43120" y="4267080"/>
            <a:ext cx="136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3440" y="2209680"/>
            <a:ext cx="154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720" y="2514600"/>
            <a:ext cx="154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4640" y="5029200"/>
            <a:ext cx="160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t 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952880"/>
            <a:ext cx="990720" cy="355680"/>
          </a:xfrm>
          <a:custGeom>
            <a:avLst/>
            <a:gdLst/>
            <a:ahLst/>
            <a:rect l="l" t="t" r="r" b="b"/>
            <a:pathLst>
              <a:path w="624" h="224">
                <a:moveTo>
                  <a:pt x="0" y="0"/>
                </a:moveTo>
                <a:cubicBezTo>
                  <a:pt x="116" y="80"/>
                  <a:pt x="232" y="160"/>
                  <a:pt x="336" y="192"/>
                </a:cubicBezTo>
                <a:cubicBezTo>
                  <a:pt x="440" y="224"/>
                  <a:pt x="532" y="208"/>
                  <a:pt x="624" y="1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88" y="1240"/>
                  <a:pt x="176" y="1232"/>
                  <a:pt x="240" y="1056"/>
                </a:cubicBezTo>
                <a:cubicBezTo>
                  <a:pt x="304" y="880"/>
                  <a:pt x="320" y="368"/>
                  <a:pt x="384" y="192"/>
                </a:cubicBezTo>
                <a:cubicBezTo>
                  <a:pt x="448" y="16"/>
                  <a:pt x="536" y="8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286000"/>
            <a:ext cx="990720" cy="2921040"/>
          </a:xfrm>
          <a:custGeom>
            <a:avLst/>
            <a:gdLst/>
            <a:ahLst/>
            <a:rect l="l" t="t" r="r" b="b"/>
            <a:pathLst>
              <a:path w="624" h="1840">
                <a:moveTo>
                  <a:pt x="0" y="0"/>
                </a:moveTo>
                <a:cubicBezTo>
                  <a:pt x="88" y="12"/>
                  <a:pt x="176" y="24"/>
                  <a:pt x="240" y="288"/>
                </a:cubicBezTo>
                <a:cubicBezTo>
                  <a:pt x="304" y="552"/>
                  <a:pt x="320" y="1328"/>
                  <a:pt x="384" y="1584"/>
                </a:cubicBezTo>
                <a:cubicBezTo>
                  <a:pt x="448" y="1840"/>
                  <a:pt x="536" y="1832"/>
                  <a:pt x="624" y="18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228600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cubicBezTo>
                  <a:pt x="128" y="20"/>
                  <a:pt x="256" y="40"/>
                  <a:pt x="336" y="96"/>
                </a:cubicBezTo>
                <a:cubicBezTo>
                  <a:pt x="416" y="152"/>
                  <a:pt x="432" y="280"/>
                  <a:pt x="480" y="336"/>
                </a:cubicBezTo>
                <a:cubicBezTo>
                  <a:pt x="528" y="392"/>
                  <a:pt x="600" y="416"/>
                  <a:pt x="624" y="4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2514600"/>
            <a:ext cx="14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Filter by Du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tend the capture du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ducing, at runtime, the amount of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 duration filter, you can only capture about 0.4 seconds worth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e only long-dura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ooking for long-lasting functions, you don’t need to see the short ones (in most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by Duration -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7520" y="1471680"/>
            <a:ext cx="8218440" cy="57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duration filter to 'function_graph'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duration to thresh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ard function entry and exit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easy to discard exit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don’t commi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ier to discard entr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ng_buffer_event_discard() converts event to padding if subsequent events have been committed to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65040" indent="-210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tes a lot of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040" indent="-210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ely constrains the time coverage for a tr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1440" y="26028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by Duration - second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3760" y="1309680"/>
            <a:ext cx="8485200" cy="57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new 'function_duration'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save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race log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5040" indent="-210600">
              <a:lnSpc>
                <a:spcPct val="8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ave call time on function return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unction exit, compare duration to thresh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t exit entry events for short duratio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simpl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fa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ssue is that log is displayed in order of function exit (not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olved with a simple sort on trace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47880" y="2361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 time coverag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vs duration tra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629400"/>
            <a:ext cx="754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†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test finished without filling the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68240" y="1676520"/>
            <a:ext cx="8762760" cy="4419000"/>
            <a:chOff x="768240" y="1676520"/>
            <a:chExt cx="8762760" cy="4419000"/>
          </a:xfrm>
        </p:grpSpPr>
        <p:sp>
          <p:nvSpPr>
            <p:cNvPr id="133" name=""/>
            <p:cNvSpPr/>
            <p:nvPr/>
          </p:nvSpPr>
          <p:spPr>
            <a:xfrm>
              <a:off x="6482160" y="5458680"/>
              <a:ext cx="1295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2160" y="4914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4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82160" y="436968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759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82160" y="3825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4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2160" y="328104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6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82160" y="2668680"/>
              <a:ext cx="12952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73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82160" y="1676520"/>
              <a:ext cx="129528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ce Event 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440" y="5458680"/>
              <a:ext cx="1752120" cy="635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868.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8640" y="5458680"/>
              <a:ext cx="1523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1.31 s 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4760" y="5458680"/>
              <a:ext cx="1523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95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63520" y="5458680"/>
              <a:ext cx="13712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240" y="5458680"/>
              <a:ext cx="1295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7440" y="4914360"/>
              <a:ext cx="1752120" cy="544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54.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8640" y="4914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1.70 s 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34760" y="4914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8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63520" y="491436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240" y="4914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7440" y="4369680"/>
              <a:ext cx="17521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8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8640" y="436968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8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4760" y="436968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0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63520" y="436968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240" y="436968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7440" y="3825360"/>
              <a:ext cx="17521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34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8640" y="3825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34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4760" y="3825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309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63520" y="382536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240" y="3825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7440" y="3281040"/>
              <a:ext cx="17521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3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8640" y="328104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2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34760" y="328104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6840" indent="-96840">
                <a:lnSpc>
                  <a:spcPct val="100000"/>
                </a:lnSpc>
                <a:spcBef>
                  <a:spcPts val="499"/>
                </a:spcBef>
                <a:spcAft>
                  <a:spcPts val="1400"/>
                </a:spcAft>
                <a:tabLst>
                  <a:tab algn="l" pos="0"/>
                  <a:tab algn="l" pos="96840"/>
                  <a:tab algn="l" pos="554040"/>
                  <a:tab algn="l" pos="1011240"/>
                  <a:tab algn="l" pos="1468440"/>
                  <a:tab algn="l" pos="1925640"/>
                  <a:tab algn="l" pos="2382840"/>
                  <a:tab algn="l" pos="2840040"/>
                  <a:tab algn="l" pos="3297240"/>
                  <a:tab algn="l" pos="3754440"/>
                  <a:tab algn="l" pos="4211640"/>
                  <a:tab algn="l" pos="4668840"/>
                  <a:tab algn="l" pos="5126040"/>
                  <a:tab algn="l" pos="5583240"/>
                  <a:tab algn="l" pos="6040440"/>
                  <a:tab algn="l" pos="6497640"/>
                  <a:tab algn="l" pos="6954840"/>
                  <a:tab algn="l" pos="7412040"/>
                  <a:tab algn="l" pos="7869240"/>
                  <a:tab algn="l" pos="8326440"/>
                  <a:tab algn="l" pos="8783640"/>
                  <a:tab algn="l" pos="924084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.31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63520" y="328104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8240" y="328104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7440" y="2668680"/>
              <a:ext cx="1752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8640" y="2668680"/>
              <a:ext cx="1523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4760" y="2668680"/>
              <a:ext cx="1523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295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63520" y="2668680"/>
              <a:ext cx="13712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8240" y="2668680"/>
              <a:ext cx="12952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77440" y="1676520"/>
              <a:ext cx="175212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jected Trace Time Cov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8640" y="1676520"/>
              <a:ext cx="152352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me Covered by Tr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34760" y="1676520"/>
              <a:ext cx="152352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tal Function 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63520" y="1676520"/>
              <a:ext cx="137124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 Filter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8240" y="1676520"/>
              <a:ext cx="129528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8240" y="1676520"/>
              <a:ext cx="8761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8240" y="2668680"/>
              <a:ext cx="876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8240" y="328104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240" y="382536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8240" y="436968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8240" y="491436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8240" y="545868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240" y="6094080"/>
              <a:ext cx="8761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8240" y="1676520"/>
              <a:ext cx="1440" cy="44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6352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476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864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2160" y="1676520"/>
              <a:ext cx="144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529920" y="1676520"/>
              <a:ext cx="1080" cy="44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44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400800" y="6629400"/>
            <a:ext cx="3049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6800" y="6705720"/>
            <a:ext cx="126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182880" bIns="0" anchor="t">
            <a:normAutofit/>
          </a:bodyPr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mount debugfs -t debugfs /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d /debug/tr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available_tr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_graph function_duration function sched_switch 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00 &gt;tracing_th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tion_duration &gt;current_tr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 &gt;tracing_enabled ; do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 /bin | sed s/a/z/g ; done ;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duration-proc &gt;trace_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trace &gt;/tmp/trac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/tmp/trace.txt | sort –k3 &gt; /tmp/trace.txt.s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function graph tracing to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coverage rat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kernel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trace analysis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856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unction Duration Results (sorted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5520" y="1600200"/>
            <a:ext cx="9383760" cy="5637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0" anchor="t">
            <a:noAutofit/>
          </a:bodyPr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 tracer: function_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 CPU  TASK/PID        CALLTIME       DURATION                 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 |    |    |            |              |   |                     |   |   |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52393 |  ! 436.833 us  |      bprm_mm_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54893 |  ! 321.500 us  |        mm_a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70893 |  ! 296.500 us  |          mm_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79393 |  ! 266.166 us  |            get_pgd_s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44059 |  ! 229.500 us  |      prepare_binp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65393 |  ! 198.666 us  |        kernel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69226 |  ! 183.333 us  |          vfs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80393 |  ! 142.000 us  |            do_sync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85559 |  ! 120.667 us  |              nfs_file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82393 |  ! 538.000 us  |      copy_strings_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85726 |  ! 521.667 us  |        copy_st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93893 |  ! 470.000 us  |          get_arg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97226 |  ! 455.500 us  |            get_user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5000059 |  ! 421.667 us  |              __get_user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5031393 |  ! 285.666 us  |                handle_mm_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5037726 |  ! 101.833 us  |                  __pte_a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kernel b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5359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start tracer early in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ftrace=function_duration” on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specify “tracing_thresh=&lt;value&gt;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er is initialized after kernel core (timers, memory, interrupts), but before all init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my hardware, tracer starts about 50 milliseconds after start_kernel(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restore instrumentation to functions in _init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stop trace after point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7520" y="3618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stop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7520" y="1471680"/>
            <a:ext cx="82184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trace_stop_fn=&lt;func_name&gt;” on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e stops on ENTRY to name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, figure out a fairly unique function, which runs immediately after the area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call works very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call functions have unique names in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7880" y="361800"/>
            <a:ext cx="82166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early boot 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7880" y="1471680"/>
            <a:ext cx="82166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race most of kernel bo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this to the kernel command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race=function_duration   tracing_thresh=200 trace_stop_fn=run_init_proc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trace doesn't cover the whole boot, increase tracing_thresh and try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race an individual init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initcall following the one you are interest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use initcall_debug on kernel comm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: pty_init follows tty_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rnel command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race=function_duration trace_stop_fn=pty_in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7880" y="317520"/>
            <a:ext cx="8215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tr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47880" y="1471680"/>
            <a:ext cx="8215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dd tool is provided to analy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fdd sh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counts, total time, averag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-routine with the longest duration, how many times it wa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time = total time minus sub-routine tot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pproximately the cost of the local execution of 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time may be wrong if process is scheduled out or if a filter wa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 need an option to subtract time that function was schedul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lter, sort, select output columns,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917200" cy="5867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274320" bIns="0" anchor="t">
            <a:normAutofit/>
          </a:bodyPr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 fdd /tmp/trace.txt –n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                          Count Time       Average  Local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 ----- ---------- -------- 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hedule                               59 1497735270 25385343 1476642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_write                              56 1373722663 24530761    2892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fs_write                              56 1367969833 24428032    3473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_write                              54 1342476332 24860672 1212301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path_lookup                         95 1076524931 11331841   346821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link_path_walk                       99 1051351737 10619714    6702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call_sync                          87 1033211085 11875989    1700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_walk                              94 1019263902 10843233    34251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run_task                           87  960080412 11035407    2292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execute                            87  936049887 10759194    2316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rpc_execute                          87  932779083 10721598   113833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lookup                             191  875826405  4585478    9510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_transmit                         100  785408085  7854080    58713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nfs_revalidate_inode                 38  696216223 18321479    1652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fs_proc_getattr                       38  690552053 18172422    1234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d of tracing can be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function duration = 3.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 = 11.4 microseconds p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PU-bound test to measure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/sys &gt;/dev/nu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 I/O-bound test (or a real-workload), the ratio of overhead to average function duration should be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trace compiled into kernel, but the 'NOP' tracer selected, the overhead in my test was about 1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d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400" y="1650960"/>
            <a:ext cx="8383680" cy="4872240"/>
            <a:chOff x="914400" y="1650960"/>
            <a:chExt cx="8383680" cy="4872240"/>
          </a:xfrm>
        </p:grpSpPr>
        <p:sp>
          <p:nvSpPr>
            <p:cNvPr id="210" name=""/>
            <p:cNvSpPr/>
            <p:nvPr/>
          </p:nvSpPr>
          <p:spPr>
            <a:xfrm>
              <a:off x="7391520" y="6073920"/>
              <a:ext cx="19047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.4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3600" y="607392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5680" y="607392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03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4080" y="6073920"/>
              <a:ext cx="1371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1.43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6073920"/>
              <a:ext cx="22096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00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1520" y="5627520"/>
              <a:ext cx="190476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.4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5627520"/>
              <a:ext cx="144792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95680" y="5627520"/>
              <a:ext cx="144792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0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4080" y="5627520"/>
              <a:ext cx="13716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1.4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5627520"/>
              <a:ext cx="220968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520" y="5180040"/>
              <a:ext cx="19047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.48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3600" y="518004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8.70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518004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24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080" y="5180040"/>
              <a:ext cx="1371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4.58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" y="5180040"/>
              <a:ext cx="22096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-=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1520" y="4734000"/>
              <a:ext cx="190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1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4734000"/>
              <a:ext cx="14479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0.83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4734000"/>
              <a:ext cx="14479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5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4734000"/>
              <a:ext cx="1371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0.87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4734000"/>
              <a:ext cx="2209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91520" y="4286160"/>
              <a:ext cx="1904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1.4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3600" y="4286160"/>
              <a:ext cx="14479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4.6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4286160"/>
              <a:ext cx="14479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923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4080" y="4286160"/>
              <a:ext cx="13716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2.8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4286160"/>
              <a:ext cx="22096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3700440"/>
              <a:ext cx="1904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1.40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43600" y="370044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4.6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370044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911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3700440"/>
              <a:ext cx="13716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2.55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3700440"/>
              <a:ext cx="22096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=duration, thresh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520" y="3114720"/>
              <a:ext cx="1904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.4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11472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6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11472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1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24080" y="3114720"/>
              <a:ext cx="13716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1.57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4400" y="3114720"/>
              <a:ext cx="22096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=duration, enabled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91520" y="2666880"/>
              <a:ext cx="1904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0.39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2666880"/>
              <a:ext cx="14479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.61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666880"/>
              <a:ext cx="1447920" cy="447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757M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666880"/>
              <a:ext cx="13716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9.94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14400" y="2666880"/>
              <a:ext cx="22096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=n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91520" y="2236680"/>
              <a:ext cx="1904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43600" y="2236680"/>
              <a:ext cx="14479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.2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5680" y="2236680"/>
              <a:ext cx="1447920" cy="430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751M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4080" y="2236680"/>
              <a:ext cx="13716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8.85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14400" y="2236680"/>
              <a:ext cx="2209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=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1650960"/>
              <a:ext cx="190476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Overhead per fun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43600" y="1650960"/>
              <a:ext cx="144792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ime per fun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650960"/>
              <a:ext cx="144792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Function 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080" y="1650960"/>
              <a:ext cx="137160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Elapsed 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14400" y="1650960"/>
              <a:ext cx="220968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 st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1650960"/>
              <a:ext cx="8381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23668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266688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311472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370044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4400" y="428616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4400" y="473400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518004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562752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4400" y="607392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4400" y="6521400"/>
              <a:ext cx="8381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1650960"/>
              <a:ext cx="1440" cy="48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1650960"/>
              <a:ext cx="180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5680" y="1650960"/>
              <a:ext cx="180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1650960"/>
              <a:ext cx="144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1650960"/>
              <a:ext cx="144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296280" y="1650960"/>
              <a:ext cx="1800" cy="48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976320" y="69310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= esti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47520" y="3618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map and 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47520" y="1471680"/>
            <a:ext cx="82184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line tr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function graph assembly suppor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_duration tr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to ftrace for use at bo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use functionality to improve boot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6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lready identified a few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68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_usermode_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68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_auto_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76456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race tutorial at OLS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ople.redhat.com/srostedt/ftrace-tutorial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ree-electrons.com/pub/video/2008/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s2008-steven-rostedt-ftrace.o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of Ftrace” at Spring 2009 LF Collaboration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ople.redhat.com/srostedt/ftrace-world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es and tools for this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linux.org/Ftrace_Function_Graph_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uration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08040" y="462564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race is the first generic tracing system to get mainlined (Hurray!!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lined in 2.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rived from RT-preempt latency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a generic framework for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astructure for defining trace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register different kinds of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zed data structure (ring buffer) for trace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FTrac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points defined by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to trace handler written in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inserted by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gcc ‘-pg’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s call to ‘mcount’ in each function pro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maintain – no source cod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ractical way to maintain 20,000+ trace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ount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ount’ is called by every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pt inlines and a few spe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be a low-overhead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ompatible with some compiler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cannot omit frame-pointers on AR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iler disables some optimizations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with ARM EA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assembly indicates that mcount callers have well-defined fram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c 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count routine (_gnu_mcount) i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to Call m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449568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a0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0" y="2285640"/>
            <a:ext cx="464832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1a0c00e mov ip, 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fe bl 0 &lt;mcou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00000028 andeq r0, r0, r8, lsr #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c: ebffff9d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0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4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429000"/>
            <a:ext cx="4495680" cy="4730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setup at run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-files in debug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mount debugfs –t debugfs /de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echo function_duration &gt;current_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rac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echo 100 &gt;tracing_thresh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o duration-proc &gt;trace_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Data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structure for collecting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buffer as list of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version is lockless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atomically reserve space for an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timestam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cpu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requiring cross-CPU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voids cach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9-10-14T14:02:41Z</dcterms:modified>
  <cp:revision>2</cp:revision>
  <dc:subject/>
  <dc:title>Slide 1</dc:title>
</cp:coreProperties>
</file>